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7A2-04A2-4FC0-8D88-9C76EA34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A2A-09CA-4288-914D-8EAC01FA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0B305-BA33-42D1-8A0B-C79571E6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9AAF1-19FD-41B7-8F19-7F00A795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FA078-E457-453A-B50B-8FDBE692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94C59-A556-4091-8446-B86D79FA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53E94-C569-4ABF-B991-EB8E00D5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C958E-0E9F-4F66-9536-5250A334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37051-8467-4A95-8673-541BDB64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DEA61-E607-47B4-BA1C-513B0E69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EB63F-D8A0-4BFA-BA8A-ECB24FD5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65E2A-4EE5-437B-9BE6-A6F91506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1A8-F78B-4282-AAC3-4B854150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694C5-9663-4CFA-B052-29C85C50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DFEB5-074B-4090-AFA9-B1BFBE76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717C6-C76C-4D67-BCDC-3F1AA776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D1007-F0E5-4085-8A8C-F7ACB860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3D56C-8FB0-4089-A595-F95C8CDF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4FC6B-8E3C-4919-93E0-4F25A636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46E35-8466-4616-938A-F2CAE22F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9D560-6653-48A1-BA2D-F7E4EF47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B5AA1-C500-4A10-807A-C51DEF4D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679B5-89D0-4160-92D8-F4FA8765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0C6-0C03-463D-BE49-7F89348B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8F0F6-2CB7-4017-BA5C-15788453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05C0D-52C4-4080-8D82-7AB6D563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2C161-9E91-4EB2-B6C2-C4F72D27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0ED2E-A7B9-4C8B-964A-E5137561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F10F9-9E0E-4559-B9DA-B54E02EA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AB71B-0ADA-40BC-B349-9E3C7700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B6EB8-A493-411D-8B81-0D4FF86B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B88BD-3F53-4181-AD1F-006CAE61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AA5C0-A54E-42A4-BB99-E47C3535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EED10-F6A9-4D24-AA69-B63F034F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E0CC-156E-46E3-9F35-67650E0A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492B3-17B3-4924-B4DF-412CF950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78B82-0C5D-4EB7-BAEA-0E4BE497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6B079-D410-4DD2-AD21-F58C23CF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C24A7-C491-414E-89C9-2470BAB5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9AC58-BA78-48B7-B3E3-2C2D4396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A11A6-62EC-429B-A90F-62EE2621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75535-0F00-4AC4-8666-9A001C47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75F4B-0394-494F-A1F6-2FAEA8E6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C9842-BCEA-40B9-AF79-A2EBD955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FF9E5-489E-4C10-A00C-3F54C9EB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9177-CCA4-4B0F-81EB-6149E11D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8DAF2-BDF7-4F04-AC61-023FE889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ABFD9-2362-4FA5-8080-5A11F15E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D1AC0-0263-4946-B2E5-49DE3DE2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AB93E-D490-4A7D-8715-11101FF7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549A9-9AAE-41AC-8055-31372A9B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D9A03-4F9A-4981-B466-F0AFF66D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EA3F2B-71C6-405C-8AD8-FE955A0E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F2F7E-A79A-4122-A507-3D9790A9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734C2-EA1B-4B48-9396-B184383C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8772D-E8DF-4637-A166-1A2A25D6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7F00-8213-4E12-9506-BEC7A9B4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82518-9837-438A-AD3F-8AD492B5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14801-AAFE-4B75-8A2C-3F9D9E43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405E5-CA9E-4452-AF6D-62B13A40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FE63C-8633-4BDF-BEF9-D44104DF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50D132-90B8-4DE6-ACCE-855C2EB7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350FB-0DE8-4478-AC84-79089684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96983-C88D-4DE7-B4B8-1DFAE7D2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3770B-2068-43D4-A645-67E17FFD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D740B8-329D-4307-9F44-4158F5F4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3BBD0-EAFE-4237-BD48-5688B14A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6E0F-4C14-4E20-A8AF-9C16DB68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FE6E7-415B-4816-8F44-14A661F6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D2FD8-4321-428F-A485-91177F2C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77F97-EE3F-4B6C-A98C-76CA8A73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40273-2EC3-4091-87C2-D0664292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5A18E9-C244-47CC-B72A-68CE7429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EAB93-FEC6-4438-889F-1ECD8725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67E12A-F357-4371-8347-B23214EA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620794-86BA-4119-85AE-D0E71172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FEA6A-7753-48B3-981A-6103885E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2D0CD-DBE9-4FC1-8519-D10B1021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C63E-C26F-4460-9E1F-B16FBA39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ADDE6-5704-417E-BD94-8F868BE6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7A14DD-7568-4DE1-B205-B829FE00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77399-DCAB-4870-AA95-B1927B5D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688DB9-863D-4262-B589-2C901520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7B594-8764-4397-97EE-0CA14E98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3EE63A-C701-4494-A71B-3F5BB283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EBF51-4597-49D3-853E-2D556ABB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9F07E3-5CA5-4014-B455-53BCD252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84CC90-2DB4-4EAD-BBB5-520093C0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E8F63-30B8-4A6F-8D7F-EA91D63C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E599-79A7-43B5-BA3D-F0D53EFC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49AD4-3A8E-47EF-A13C-8B312619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95DD42-B0B2-426D-86AE-41CACE0F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13EE7-BC02-4F0B-BAEA-7B63A29C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DD09DA-44F0-437B-8404-C9621FE3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2A3EE1-6683-4901-8B9D-EA363B3F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271B00-4F6C-4700-AA2C-F5BB171C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AC0658-DFFF-4E77-A4E9-5E6A904E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25AEC0-E603-413B-A422-27FA4F28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E655CD-3F7F-4E64-B1A7-8F774AE4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9E1EB-76DE-4E27-88D1-3882C8AF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1BE8-2A10-4953-910F-C93678D6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64A8F-6EDF-496F-85E2-8FB9196A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B0F492-1736-4A22-A6A5-64BAFA3F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190B2-F8BE-4594-B1DE-06734C62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B32DA-3DDD-4874-9DED-FE36265A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071677-1900-437B-8BE2-77D29EBF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D6CCB4-971C-4BD7-A578-988921F3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A3EFE-F403-4E13-B236-21F6BF06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BA4B3-A620-422B-A98E-76F3D960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86C2D-D70B-40BD-A3A8-EC99CF67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B386DE-CCC7-4F71-8CD8-EA956C79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A3B2-BF18-4EBF-81F7-11877C31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AB4B-D223-41CD-A82A-92D1EEDB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1C6C81-1303-48A9-B54C-4BCBE13D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A5D3EE-A5D7-4A32-B302-4731F50F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D43E31-63DB-4A7F-8CA4-8D798A9D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0F808-6AE9-4C82-8D2F-0B3797DE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3102D-EAFF-4734-9B08-C8287414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22EF20-2792-435F-9DFE-1599B938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8696E1-2465-4EA6-935B-7DF9FA8C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AD30D2-A4EF-4CF2-B67F-06C4D0BB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6091D3-80A5-41B2-B2F3-1AAE9CDB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07D33B-F07B-403E-A7A6-3EE07FC0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594C-7661-4F40-85A7-97ECBAA9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9A643A-E951-4EF0-BBF0-B28581E5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772C56-25E6-406A-9DDE-2145F758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68ADCA-F214-40EE-8D9D-943A467F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9D6273-BED4-4948-8902-DEA9BF0C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C43EF-FF80-4964-A334-EEAD56EC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12F8A1-0D5A-40AF-8167-7CC543C2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53D648-53EC-443F-AF7C-D79035A8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3E611-761B-4392-9CD5-C6C25F76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A8C78E-B460-4589-90B6-79322206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294392-5015-40B6-B4FC-B0C115E6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BF6C-D041-4730-B8BF-55005E66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0D2A4F-07DE-4361-B1E6-FDA58914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678021-CEE6-4DFB-817B-9E7E161B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8700AF-383F-4C4D-9DA3-B031A9C3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A7FFFA-3FF1-409A-BAC4-5D705B6D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24F0A1-2B8F-41C7-B1A9-ED75DD3F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EDA434-343B-44E1-9FE0-ED201149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320557-9B24-4F38-AECE-6C57D387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F05BE5-4112-4FDC-841E-6F74066F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00859D-EE5E-4844-811F-9EB8D290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42EC1-2F6D-4BEE-B0B8-B8F32EF2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1339-5A2A-41FB-97F5-2E0F0F7C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8CA792-C4F1-49BD-B444-FE35B4E8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41125C-C999-49FB-8191-CFE6FC3F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A5DF3C-AB54-49B7-8E8A-B5FEF5AB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CC82A7-8684-4049-8B58-7AF002FC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1B63AB-3CB9-4555-A96D-B812BA3F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BADD72-AA32-45D8-80DB-1C448BD0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7AFC68-2462-4DA3-B100-186B92FB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9E212F-F9F5-4AEB-A8FF-34C4F7A8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75B00E-7148-4057-A4D0-2195C6E1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FC8155-FE85-4D08-BB5C-0B93C85D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FA62-5FFB-4E8D-9207-85986CD4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F31E77-E02E-4757-A434-76B4CE93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99C90A-FB28-4226-9AC5-C42FC30F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7258A2-C705-478F-BE8E-85702060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E0D2E2-5061-4293-A300-044C552B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32F047-A1DD-49DD-AE99-F4AF08EC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48D918-9672-47D5-8CDD-612ECFE6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186154-77A8-4980-914D-CCFB390D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FD8F49-CE24-4935-82CC-3CE6418F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C89DC7-9D7B-464E-9B8A-10139076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6DB556-7C69-4623-B727-BC4BDED1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F53A-144E-4853-82D2-A0834200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C3C083-BB66-4A21-A725-724FA84C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A9BF26-46D9-43B2-A190-88F62F69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A38F24-27D0-43AF-9301-3E0BB95C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2D0F-FBCE-4897-9F3A-699CB11E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D2BC8-D050-43DF-AF7A-CB757FD6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98C3-2AA3-4343-A5DA-A9909858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A9F50-DD68-487E-AF72-AA0CF091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B29-D787-4BCE-B6BE-B5ECF3E6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F284B-93AD-4241-89AB-AAF92CDC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E8337-833E-4946-9920-BF2846F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0B0C0-0B96-4832-ABCD-09E82311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77464-7138-4AF8-8523-31709844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9E003-338A-46BA-ADF4-D459A28C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07961-BB26-4D2A-9E73-A770C8E0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3A51-ADCF-4829-8E59-9F8AAB46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DB1D0-FD35-402A-8AFF-4AA78C52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6C1E3-F1DB-4FAA-92FD-D2A9BA09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2FD42-9840-4CCB-A423-641C5EB2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82C-306C-4D90-B730-E59FD73E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9746-5043-47F7-A582-8234A4AB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1BC7-78FF-4AFA-A83A-F08E4CFB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80631-6E4A-4459-822C-3F1D6BF0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E2324-DCD7-4BD0-A72D-46DF41A5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A5BF4-2376-4282-B823-448C47A4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FB94-2112-4DBF-9D08-170ABFCE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884DF-8C5B-450B-B89D-A3C65057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7161A-EBCB-4926-9E71-3457BD12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7A92C-FC85-424A-8C1E-E15B2DE1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387B6-FE58-404A-8B23-427D1F9B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1E6-730A-415E-BEC1-33DD80FF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D6207-A137-4B19-8B2A-3E2A18A1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57D40-3B6B-4D73-ACA6-11F79AFC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986E2-4569-45D1-A97B-DB612FC5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837D3-AB12-4276-A302-0E96697E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B5CE9-6A83-4E06-AE00-98FFD27A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06C27-9B4D-4971-BAF6-8E53F17F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245BA-83FD-495A-A194-9F414D91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8A470-9B43-4CF4-9579-C2888774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17A6F-0046-49E1-AE04-1C4A5096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1D0E3-671E-4E00-BB23-C04C3F1A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AAF-08F4-4443-BF2D-6258F819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C1F57-33B9-4C53-9B47-EE6AD15A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30D6B-7945-4F1F-9024-F65EFA87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61628-F804-4E92-8266-644FEA2B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53F7E-5706-48EC-B963-B955FE31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E59B1-EC9A-46CF-B5CB-3893ACCB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B2A85-0241-4A3A-A785-D7F686F7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4B56E-A7D2-4105-8ABF-A8D827CC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8C655-EA99-4282-B586-A9F73760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D498D-0D13-42FD-BDE9-249F642C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F8C3B-E8F9-46C9-8EEF-2E211328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31F-C407-4B87-A6D2-6394A351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AC4E2-BC63-4532-962F-04BDBA51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F4C4F-9985-4E50-88C7-7416E8EB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43708-A457-4E35-92B6-CF5151C8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BA675-2D19-4A18-9057-2F6D460D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0843A-410A-4705-9291-D7764460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3F11E-EADA-4A8D-8A4E-1D41940D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1BE74-D53F-4F14-AF8B-5D607DD0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EF2AF-5BCF-4773-BC5C-D66A496D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A2A76-03AB-44D1-BABB-2107B9FC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8F1EC-2C0E-48D6-8FE7-95D85664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448-C4CC-440D-8E14-A2709845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46AEA-053E-4D03-B015-55D589CA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8F2F9-AB1E-419F-B806-5EDC9110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8C135-D170-4983-9D25-F471FE44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BA23B-5EFB-46D8-926D-B1C53ACD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8D1F2-2D63-44D7-B69A-8416B243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7E0B6-3B02-4B5E-8B09-04229E85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18919-E6FA-407A-920C-16E180F1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FCB97-36D0-4E54-B25F-FDE1D8A5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09906-9EAB-4064-B5B2-49FD7DBD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09A39-730E-470B-9CEA-F2EE99D2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BA8-626A-4A5D-858F-D3AD2DB3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F352B-E5EE-4B70-8D3E-9438A638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0051D-6E71-48EE-B163-5829D36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BA308-C264-4C0A-9686-52154FBE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34A43-AB5F-4B1D-A730-03A59B6B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42149-2F84-4694-945F-83C1BDBA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BFCF9-3ED4-479C-BBB3-07478B10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5A2FE-3BB0-49E5-891A-CACE9ADB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E33AC-8CF7-42E1-90C4-44B08E41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0698B-C907-499C-B681-37FEABD5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79DA5-3270-44B6-AE0A-8C0CB05C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E1FE-211E-4E3F-A795-5E696491B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1A44-0B5D-46D4-BDEB-990845D1BB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A4FF-3D68-4EF8-BB54-216AF7465C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FC8F-5C7E-4C29-9698-90A5006B1B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2445-335B-491A-9668-C60092DAB5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D0FC-338A-45ED-9910-0F0F6F316D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51D9-7EDD-4B5A-BE1A-E0E4167E36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A59C-3895-4FA7-9BB4-4F073B5C44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0DF1-B937-42C5-AA66-579D2AE6E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B04A-DF6B-4E7B-B75E-D8BF932721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56FD-A9D2-416F-A99C-E6B4EAAE87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9633-C562-4B4A-9B86-1FF8468395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D95E-09D4-40E9-8876-2C337A2DFE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29ED-5279-4157-9C0D-77251D35CC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38F8-40E8-4C7D-8BF8-FF89039B16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9BDC-F1A9-4B92-8C4F-77516068F4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C4E7-561C-4CFD-9AFE-C5D8474725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A96F-B053-4C2F-B7BD-C75677D6C0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F717-7F10-46D4-8724-5E27688397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4BE4-A5B4-4F23-A88A-43DDD10359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59D9-3B00-432C-AC32-2668593153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D3C7-B44C-4F60-B22D-BF35CCFFAC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329A-B59A-4AAC-A3E9-0DA2186BB1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4AC3-766C-4302-9DD3-597F705D79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6F7E-C7AA-4CB8-A89F-8DA3CA78F0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A8E7-CF6F-4551-840A-3F4D665DC2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4724-8D42-4181-B276-A0EDB0076D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F7BE-C15D-40C0-BC6B-311F95DAD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A54E-55AA-491D-941A-28CCE0C2AB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494F-9C24-4FD5-8B8B-58056C4287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E8F8-44FA-4623-97AA-48ECCD488C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725B-EB40-4B69-A9CB-B67A6E259A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847B-57C7-4061-9C83-F65AB35773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91FB-E77F-4CB3-BED5-042CC2BBA8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8DDB-A5FD-40D3-8797-2E6EC6793C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8F82-7EAC-49C4-BD1A-00A7233733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0348-3DCA-4922-B9D3-DD988ACBE2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5425-B606-44D1-AD54-9D5D749FC4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C3DF-2659-4816-BDC7-571C1B83F3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2AB5-191A-4116-B0DB-6A32910011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285840" y="3086280"/>
            <a:ext cx="864396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24840" cy="607212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857160" y="2500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928800" y="49291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2" descr=""/>
          <p:cNvPicPr/>
          <p:nvPr/>
        </p:nvPicPr>
        <p:blipFill>
          <a:blip r:embed="rId1"/>
          <a:stretch/>
        </p:blipFill>
        <p:spPr>
          <a:xfrm>
            <a:off x="500040" y="733320"/>
            <a:ext cx="8191440" cy="612468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928800" y="785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2857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928800" y="43578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267760" cy="353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2"/>
          <a:stretch/>
        </p:blipFill>
        <p:spPr>
          <a:xfrm>
            <a:off x="500040" y="4857840"/>
            <a:ext cx="8229600" cy="1504800"/>
          </a:xfrm>
          <a:prstGeom prst="rect">
            <a:avLst/>
          </a:prstGeom>
          <a:ln w="0">
            <a:noFill/>
          </a:ln>
        </p:spPr>
      </p:pic>
      <p:sp>
        <p:nvSpPr>
          <p:cNvPr id="1032" name="矩形 3"/>
          <p:cNvSpPr/>
          <p:nvPr/>
        </p:nvSpPr>
        <p:spPr>
          <a:xfrm>
            <a:off x="3357720" y="1714680"/>
            <a:ext cx="12142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3571920" y="2214720"/>
            <a:ext cx="235728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2428920" y="3286080"/>
            <a:ext cx="12142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1285920" y="3786120"/>
            <a:ext cx="12142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7"/>
          <p:cNvSpPr/>
          <p:nvPr/>
        </p:nvSpPr>
        <p:spPr>
          <a:xfrm>
            <a:off x="4429080" y="4286160"/>
            <a:ext cx="12146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"/>
          <p:cNvSpPr/>
          <p:nvPr/>
        </p:nvSpPr>
        <p:spPr>
          <a:xfrm>
            <a:off x="2714760" y="5429160"/>
            <a:ext cx="12142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086680" cy="570528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1928880" y="1928880"/>
            <a:ext cx="12142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7429680" y="1965240"/>
            <a:ext cx="857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2857680" y="2949480"/>
            <a:ext cx="92844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7286760" y="2936880"/>
            <a:ext cx="857160" cy="349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1214280" y="3500280"/>
            <a:ext cx="11430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7"/>
          <p:cNvSpPr/>
          <p:nvPr/>
        </p:nvSpPr>
        <p:spPr>
          <a:xfrm>
            <a:off x="2214720" y="4500720"/>
            <a:ext cx="928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"/>
          <p:cNvSpPr/>
          <p:nvPr/>
        </p:nvSpPr>
        <p:spPr>
          <a:xfrm>
            <a:off x="4357800" y="4479840"/>
            <a:ext cx="1403280" cy="352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9"/>
          <p:cNvSpPr/>
          <p:nvPr/>
        </p:nvSpPr>
        <p:spPr>
          <a:xfrm>
            <a:off x="6357960" y="4500720"/>
            <a:ext cx="192888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0"/>
          <p:cNvSpPr/>
          <p:nvPr/>
        </p:nvSpPr>
        <p:spPr>
          <a:xfrm>
            <a:off x="4143240" y="6072120"/>
            <a:ext cx="7146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1"/>
          <p:cNvSpPr/>
          <p:nvPr/>
        </p:nvSpPr>
        <p:spPr>
          <a:xfrm>
            <a:off x="5178600" y="6043680"/>
            <a:ext cx="10159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2"/>
          <p:cNvSpPr/>
          <p:nvPr/>
        </p:nvSpPr>
        <p:spPr>
          <a:xfrm>
            <a:off x="6546960" y="6060960"/>
            <a:ext cx="857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393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433440" y="1400040"/>
            <a:ext cx="827712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452520" y="1014480"/>
            <a:ext cx="8238960" cy="4829040"/>
          </a:xfrm>
          <a:prstGeom prst="rect">
            <a:avLst/>
          </a:prstGeom>
          <a:ln w="0">
            <a:noFill/>
          </a:ln>
        </p:spPr>
      </p:pic>
      <p:sp>
        <p:nvSpPr>
          <p:cNvPr id="1053" name="矩形 2"/>
          <p:cNvSpPr/>
          <p:nvPr/>
        </p:nvSpPr>
        <p:spPr>
          <a:xfrm>
            <a:off x="857160" y="164304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3"/>
          <p:cNvSpPr/>
          <p:nvPr/>
        </p:nvSpPr>
        <p:spPr>
          <a:xfrm>
            <a:off x="785880" y="2714760"/>
            <a:ext cx="428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4"/>
          <p:cNvSpPr/>
          <p:nvPr/>
        </p:nvSpPr>
        <p:spPr>
          <a:xfrm>
            <a:off x="857160" y="371484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5"/>
          <p:cNvSpPr/>
          <p:nvPr/>
        </p:nvSpPr>
        <p:spPr>
          <a:xfrm>
            <a:off x="857160" y="478620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6"/>
          <p:cNvSpPr/>
          <p:nvPr/>
        </p:nvSpPr>
        <p:spPr>
          <a:xfrm>
            <a:off x="857160" y="528624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22:1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